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2FA-814D-481F-8BE3-23E73AAE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F3EC-7FBA-4CBD-8D78-D8737866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60F-3C73-44CF-BB60-61981249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746-3B2B-456B-8AAF-C9B5594D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61EA-7E9A-48F2-BFEC-3D8886F2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0B75-1BA5-4FD6-861F-1AA459AD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1B62-77C5-404E-B7E6-DDF3E69C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077F-A452-4BCC-98B0-17FD9D3D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55C2-83C7-44A1-8551-1BCE3E77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9E73-06D8-4E71-903E-6F01464C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C01C-660E-4523-9A9E-6A9BB5A5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862-BA44-4F50-9BFA-3CEFF271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4818-26DD-40A6-A611-F9DBAACC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8EEB-DAFC-47D9-8B52-464900AB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9630-AA9F-4F24-AC31-F2C873A7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35E8-34D3-4AEF-9BD4-5CCB8A58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D302-607F-45E2-ACE4-96670E77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2C6-5278-4188-9D00-CDF944F7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67A-8C8D-4935-AEBE-86A643CD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A91-04EB-4D53-A06D-B189239A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93B-B79E-453F-84EB-B5E7E8A9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30A-8461-468C-B81A-992A8743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CEB-F688-46FB-A3B1-C16690D8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7BD-1CB3-4380-A5F2-316AF8F0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7AB3-DD5D-4EC2-B723-3468A266C6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7B2E-D855-4F8D-9A37-01971BE210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m 7: 7h3 31337 h4x0r5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nathan Che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ike Head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niel Che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Kyle Willst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A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181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ultiplex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if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4114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Functions: X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77197" r="0" b="0"/>
          <a:stretch/>
        </p:blipFill>
        <p:spPr>
          <a:xfrm>
            <a:off x="838080" y="2057400"/>
            <a:ext cx="7772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er: Try 1           Successfu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ipple Carry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lay: 10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5400000">
            <a:off x="1936080" y="349560"/>
            <a:ext cx="5271840" cy="74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er: Try 2       Successfu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arry Select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lay: 7.4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er: Try 3       Failed (10 hrs later) Kogge-Stone        Thr. Delay: 2.4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4410360" cy="4224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19680" y="2590920"/>
            <a:ext cx="4324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tric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We Win! Most Points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transistors sized for equivalent R to characteristic invert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ze=16952u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ay=tc-q+thold+tALU=~11.5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wer=122.3m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tal Metric=274,184,61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y too much time spent on add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st case adder ALU delay ~5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e power, more area, much less 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2:34:56Z</dcterms:created>
  <dc:creator>ITC Labs and Classrooms</dc:creator>
  <dc:description/>
  <dc:language>en-US</dc:language>
  <cp:lastModifiedBy>ITC Labs and Classrooms</cp:lastModifiedBy>
  <dcterms:modified xsi:type="dcterms:W3CDTF">2008-04-29T14:45:53Z</dcterms:modified>
  <cp:revision>4</cp:revision>
  <dc:subject/>
  <dc:title>Team 7: 7h3 31337 h4x0r5 </dc:title>
</cp:coreProperties>
</file>